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3B1-657C-4E26-9A89-71457397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336-7721-4B44-A968-C6BDB975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E1C-425D-4399-8BF1-B7B4ADD5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4A4-2B26-4DC1-A1AC-3D6090AC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BB4-7625-4D88-B80F-78E5038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EDC-A3E5-4199-84A2-4E6F309E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CE1-1C15-4123-B421-37F9D8D8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B95-70CE-4915-912F-BE3791EC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AAD-F45B-42A6-944C-0C19C438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DB6-3A8F-4D4E-92D7-291D2A0F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A4D-51DD-4111-94B7-668FEA0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C55-23BD-4354-B194-2D72A08C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536B-EC12-4C0D-8F35-37FFAECD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oper Black"/>
              </a:rPr>
              <a:t>Biology Exams Tomorrow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Are You Rea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Safety Firs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905120" cy="194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8120" y="99072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at is Science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use of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Rounded MT Bold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 construct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Rounded MT Bold"/>
              </a:rPr>
              <a:t>testable explanations and predictions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of natural phenomena, as well as the knowledge generated through this pro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at is a Hypothes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Testable Predictions of a cause of solution to a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ot a Question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If I study for my exam, then I will make a good grade!@!@!@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oper Black"/>
              </a:rPr>
              <a:t>Know your Variab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86200"/>
            <a:ext cx="3427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371600"/>
            <a:ext cx="3427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Ultra Bold Condensed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4520" y="-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8548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Rockwell Extra Bold"/>
              </a:rPr>
              <a:t>D</a:t>
            </a:r>
            <a:r>
              <a:rPr b="0" lang="en-US" sz="4000" spc="-1" strike="noStrike">
                <a:solidFill>
                  <a:srgbClr val="0000ff"/>
                </a:solidFill>
                <a:latin typeface="Rockwell Extra Bold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Rockwell Extra Bold"/>
              </a:rPr>
              <a:t>- dependent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Rockwell Extra Bold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00ff00"/>
                </a:solidFill>
                <a:latin typeface="Rockwell Extra Bold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Rockwell Extra Bold"/>
                <a:ea typeface="Times New Roman"/>
              </a:rPr>
              <a:t>- responding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Rockwell Extra Bold"/>
                <a:ea typeface="Times New Roman"/>
              </a:rPr>
              <a:t>Y</a:t>
            </a:r>
            <a:r>
              <a:rPr b="0" lang="en-US" sz="4000" spc="-1" strike="noStrike">
                <a:solidFill>
                  <a:srgbClr val="ff0000"/>
                </a:solidFill>
                <a:latin typeface="Rockwell Extra Bold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0000"/>
                </a:solidFill>
                <a:latin typeface="Rockwell Extra Bold"/>
                <a:ea typeface="Times New Roman"/>
              </a:rPr>
              <a:t>- y ax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4560" y="1523880"/>
            <a:ext cx="555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Rockwell Extra Bold"/>
              </a:rPr>
              <a:t>M- manipulating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Rockwell Extra Bold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0000ff"/>
                </a:solidFill>
                <a:latin typeface="Rockwell Extra Bold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Rockwell Extra Bold"/>
                <a:ea typeface="Times New Roman"/>
              </a:rPr>
              <a:t>- independent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Rockwell Extra Bold"/>
                <a:ea typeface="Times New Roman"/>
              </a:rPr>
              <a:t>X- x 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Know Your Groups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600200"/>
          <a:ext cx="9143640" cy="52574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13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Bodoni MT Black"/>
                        </a:rPr>
                        <a:t>Experiment Group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Bodoni MT Black"/>
                        </a:rPr>
                        <a:t>Control Group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cc00"/>
                          </a:solidFill>
                          <a:latin typeface="Arial Rounded MT Bold"/>
                        </a:rPr>
                        <a:t>Contain the Independent Variable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 Rounded MT Bold"/>
                        </a:rPr>
                        <a:t>Do not contain the Independent Variable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Know Your Bio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106668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8077320" y="2286000"/>
          <a:ext cx="94284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286000"/>
                    <a:ext cx="9428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248520" y="3429000"/>
            <a:ext cx="1143000" cy="81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924680" y="472428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16002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553080" y="5918040"/>
            <a:ext cx="1447920" cy="939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7772400" y="3352680"/>
            <a:ext cx="1143000" cy="82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000" y="563400"/>
            <a:ext cx="331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80240" y="5634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000" y="563400"/>
            <a:ext cx="331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000" y="563400"/>
            <a:ext cx="331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000" y="563400"/>
            <a:ext cx="331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6880" y="56340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539640"/>
          <a:ext cx="9144000" cy="631836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  <a:gridCol w="3048120"/>
              </a:tblGrid>
              <a:tr h="916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entury"/>
                          <a:ea typeface="Times New Roman"/>
                        </a:rPr>
                        <a:t>Biomolecules Information Char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entury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Bi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 referring to life or living things.     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Molecul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 the smallest particle of a substance composed of one or more atoms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Biomolec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"/>
                          <a:ea typeface="Times New Roman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Living things use carbohydrates as th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main source of energ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. Carbohydrates are also used for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structural purpos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Control the rate of chemical reac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and regulate cell processes.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Transport substanc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into and out of the cell. Form th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functional part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of living thin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Li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Lipids are an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important part of the cell’s membra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. Lipids can b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used as a method to store energ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for long periods of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Nucle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Nucleic acids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"/>
                          <a:ea typeface="Times New Roman"/>
                        </a:rPr>
                        <a:t>store and transmit hereditary or genetic informa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necessary for making all protei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The Role of Enzy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nzymes are catalysts made of proteins. They</a:t>
            </a:r>
            <a:r>
              <a:rPr b="0" lang="en-US" sz="4000" spc="-1" strike="noStrike">
                <a:solidFill>
                  <a:srgbClr val="3333ff"/>
                </a:solidFill>
                <a:latin typeface="Arial Rounded MT Bold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 Rounded MT Bold"/>
              </a:rPr>
              <a:t>speed up chemical reactions</a:t>
            </a:r>
            <a:r>
              <a:rPr b="0" lang="en-US" sz="4000" spc="-1" strike="noStrike">
                <a:solidFill>
                  <a:srgbClr val="3333ff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 cells by lowering the energy required for them to occu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ompare Prokaryotes and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914400"/>
          <a:ext cx="5943600" cy="5386320"/>
        </p:xfrm>
        <a:graphic>
          <a:graphicData uri="http://schemas.openxmlformats.org/drawingml/2006/table">
            <a:tbl>
              <a:tblPr/>
              <a:tblGrid>
                <a:gridCol w="2819520"/>
                <a:gridCol w="16761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Prokary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Eukary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Have a 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Have Orga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Have a Cellular Membr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(some) Have a Cell W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ll are Unicel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Some are Multicel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Have 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Bac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P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Times New Roman"/>
                        </a:rPr>
                        <a:t>Are Fun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oper Blac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6858000" y="1676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oper Black"/>
              </a:rPr>
              <a:t>X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42:52Z</dcterms:created>
  <dc:creator>AISD</dc:creator>
  <dc:description/>
  <dc:language>en-US</dc:language>
  <cp:lastModifiedBy>AISD</cp:lastModifiedBy>
  <dcterms:modified xsi:type="dcterms:W3CDTF">2010-09-15T12:09:12Z</dcterms:modified>
  <cp:revision>4</cp:revision>
  <dc:subject/>
  <dc:title>Biology Exams Tomorrow!</dc:title>
</cp:coreProperties>
</file>